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429768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474747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474747"/>
                </a:solidFill>
                <a:latin typeface="Arial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47474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-600480" y="685440"/>
            <a:ext cx="805644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474747"/>
                </a:solidFill>
                <a:latin typeface="Arial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474747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474747"/>
                </a:solidFill>
                <a:latin typeface="Arial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702B9D-8F82-4118-84A4-0B4E0B92FF99}" type="slidenum">
              <a:rPr b="0" lang="en-GB" sz="1000" spc="-1" strike="noStrike">
                <a:solidFill>
                  <a:srgbClr val="47474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600120" y="685800"/>
            <a:ext cx="805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149560" y="1058328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196828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5226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303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2149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15226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28303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49560" y="4280040"/>
            <a:ext cx="3867768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3867768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149560" y="728640"/>
            <a:ext cx="38677680" cy="141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2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2149560" y="4280040"/>
            <a:ext cx="3867768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96828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49560" y="1058328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196828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5226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8303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49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15226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28303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3867768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2149560" y="728640"/>
            <a:ext cx="38677680" cy="141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2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96828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68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33520" y="453960"/>
            <a:ext cx="5680080" cy="887400"/>
            <a:chOff x="533520" y="453960"/>
            <a:chExt cx="5680080" cy="887400"/>
          </a:xfrm>
        </p:grpSpPr>
        <p:sp>
          <p:nvSpPr>
            <p:cNvPr id="1" name=""/>
            <p:cNvSpPr/>
            <p:nvPr/>
          </p:nvSpPr>
          <p:spPr>
            <a:xfrm>
              <a:off x="533520" y="453960"/>
              <a:ext cx="887400" cy="417600"/>
            </a:xfrm>
            <a:custGeom>
              <a:avLst/>
              <a:gdLst/>
              <a:ahLst/>
              <a:rect l="l" t="t" r="r" b="b"/>
              <a:pathLst>
                <a:path w="204" h="96">
                  <a:moveTo>
                    <a:pt x="158" y="61"/>
                  </a:moveTo>
                  <a:cubicBezTo>
                    <a:pt x="158" y="96"/>
                    <a:pt x="158" y="96"/>
                    <a:pt x="158" y="96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6"/>
                    <a:pt x="204" y="90"/>
                    <a:pt x="204" y="81"/>
                  </a:cubicBezTo>
                  <a:cubicBezTo>
                    <a:pt x="204" y="15"/>
                    <a:pt x="204" y="15"/>
                    <a:pt x="204" y="15"/>
                  </a:cubicBezTo>
                  <a:cubicBezTo>
                    <a:pt x="204" y="7"/>
                    <a:pt x="197" y="0"/>
                    <a:pt x="189" y="0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15" y="0"/>
                    <a:pt x="108" y="7"/>
                    <a:pt x="108" y="15"/>
                  </a:cubicBezTo>
                  <a:cubicBezTo>
                    <a:pt x="108" y="46"/>
                    <a:pt x="108" y="46"/>
                    <a:pt x="108" y="46"/>
                  </a:cubicBezTo>
                  <a:cubicBezTo>
                    <a:pt x="143" y="46"/>
                    <a:pt x="143" y="46"/>
                    <a:pt x="143" y="46"/>
                  </a:cubicBezTo>
                  <a:cubicBezTo>
                    <a:pt x="151" y="46"/>
                    <a:pt x="158" y="53"/>
                    <a:pt x="158" y="61"/>
                  </a:cubicBezTo>
                  <a:moveTo>
                    <a:pt x="46" y="61"/>
                  </a:moveTo>
                  <a:cubicBezTo>
                    <a:pt x="46" y="96"/>
                    <a:pt x="46" y="96"/>
                    <a:pt x="46" y="96"/>
                  </a:cubicBezTo>
                  <a:cubicBezTo>
                    <a:pt x="15" y="96"/>
                    <a:pt x="15" y="96"/>
                    <a:pt x="15" y="96"/>
                  </a:cubicBezTo>
                  <a:cubicBezTo>
                    <a:pt x="7" y="96"/>
                    <a:pt x="0" y="90"/>
                    <a:pt x="0" y="8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7"/>
                    <a:pt x="7" y="0"/>
                    <a:pt x="15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9" y="0"/>
                    <a:pt x="96" y="7"/>
                    <a:pt x="96" y="15"/>
                  </a:cubicBezTo>
                  <a:cubicBezTo>
                    <a:pt x="96" y="46"/>
                    <a:pt x="96" y="46"/>
                    <a:pt x="96" y="46"/>
                  </a:cubicBezTo>
                  <a:cubicBezTo>
                    <a:pt x="61" y="46"/>
                    <a:pt x="61" y="46"/>
                    <a:pt x="61" y="46"/>
                  </a:cubicBezTo>
                  <a:cubicBezTo>
                    <a:pt x="53" y="46"/>
                    <a:pt x="46" y="53"/>
                    <a:pt x="46" y="6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3520" y="923760"/>
              <a:ext cx="887400" cy="417600"/>
            </a:xfrm>
            <a:custGeom>
              <a:avLst/>
              <a:gdLst/>
              <a:ahLst/>
              <a:rect l="l" t="t" r="r" b="b"/>
              <a:pathLst>
                <a:path w="204" h="96">
                  <a:moveTo>
                    <a:pt x="46" y="35"/>
                  </a:moveTo>
                  <a:cubicBezTo>
                    <a:pt x="46" y="0"/>
                    <a:pt x="46" y="0"/>
                    <a:pt x="46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90"/>
                    <a:pt x="7" y="96"/>
                    <a:pt x="15" y="96"/>
                  </a:cubicBezTo>
                  <a:cubicBezTo>
                    <a:pt x="81" y="96"/>
                    <a:pt x="81" y="96"/>
                    <a:pt x="81" y="96"/>
                  </a:cubicBezTo>
                  <a:cubicBezTo>
                    <a:pt x="89" y="96"/>
                    <a:pt x="96" y="90"/>
                    <a:pt x="96" y="81"/>
                  </a:cubicBezTo>
                  <a:cubicBezTo>
                    <a:pt x="96" y="50"/>
                    <a:pt x="96" y="50"/>
                    <a:pt x="96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53" y="50"/>
                    <a:pt x="46" y="44"/>
                    <a:pt x="46" y="35"/>
                  </a:cubicBezTo>
                  <a:moveTo>
                    <a:pt x="158" y="35"/>
                  </a:moveTo>
                  <a:cubicBezTo>
                    <a:pt x="158" y="0"/>
                    <a:pt x="158" y="0"/>
                    <a:pt x="158" y="0"/>
                  </a:cubicBezTo>
                  <a:cubicBezTo>
                    <a:pt x="189" y="0"/>
                    <a:pt x="189" y="0"/>
                    <a:pt x="189" y="0"/>
                  </a:cubicBezTo>
                  <a:cubicBezTo>
                    <a:pt x="197" y="0"/>
                    <a:pt x="204" y="7"/>
                    <a:pt x="204" y="15"/>
                  </a:cubicBezTo>
                  <a:cubicBezTo>
                    <a:pt x="204" y="81"/>
                    <a:pt x="204" y="81"/>
                    <a:pt x="204" y="81"/>
                  </a:cubicBezTo>
                  <a:cubicBezTo>
                    <a:pt x="204" y="90"/>
                    <a:pt x="197" y="96"/>
                    <a:pt x="189" y="96"/>
                  </a:cubicBezTo>
                  <a:cubicBezTo>
                    <a:pt x="123" y="96"/>
                    <a:pt x="123" y="96"/>
                    <a:pt x="123" y="96"/>
                  </a:cubicBezTo>
                  <a:cubicBezTo>
                    <a:pt x="115" y="96"/>
                    <a:pt x="108" y="90"/>
                    <a:pt x="108" y="81"/>
                  </a:cubicBezTo>
                  <a:cubicBezTo>
                    <a:pt x="108" y="50"/>
                    <a:pt x="108" y="50"/>
                    <a:pt x="108" y="50"/>
                  </a:cubicBezTo>
                  <a:cubicBezTo>
                    <a:pt x="143" y="50"/>
                    <a:pt x="143" y="50"/>
                    <a:pt x="143" y="50"/>
                  </a:cubicBezTo>
                  <a:cubicBezTo>
                    <a:pt x="151" y="50"/>
                    <a:pt x="158" y="44"/>
                    <a:pt x="158" y="3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963880" y="112392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619280" y="650880"/>
              <a:ext cx="384120" cy="498600"/>
            </a:xfrm>
            <a:custGeom>
              <a:avLst/>
              <a:gdLst/>
              <a:ahLst/>
              <a:rect l="l" t="t" r="r" b="b"/>
              <a:pathLst>
                <a:path w="88" h="115">
                  <a:moveTo>
                    <a:pt x="88" y="78"/>
                  </a:moveTo>
                  <a:cubicBezTo>
                    <a:pt x="84" y="101"/>
                    <a:pt x="69" y="115"/>
                    <a:pt x="46" y="115"/>
                  </a:cubicBezTo>
                  <a:cubicBezTo>
                    <a:pt x="14" y="115"/>
                    <a:pt x="0" y="86"/>
                    <a:pt x="0" y="57"/>
                  </a:cubicBezTo>
                  <a:cubicBezTo>
                    <a:pt x="0" y="29"/>
                    <a:pt x="14" y="0"/>
                    <a:pt x="46" y="0"/>
                  </a:cubicBezTo>
                  <a:cubicBezTo>
                    <a:pt x="69" y="0"/>
                    <a:pt x="84" y="13"/>
                    <a:pt x="88" y="37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4" y="28"/>
                    <a:pt x="59" y="17"/>
                    <a:pt x="46" y="17"/>
                  </a:cubicBezTo>
                  <a:cubicBezTo>
                    <a:pt x="27" y="17"/>
                    <a:pt x="23" y="43"/>
                    <a:pt x="23" y="57"/>
                  </a:cubicBezTo>
                  <a:cubicBezTo>
                    <a:pt x="23" y="72"/>
                    <a:pt x="27" y="97"/>
                    <a:pt x="46" y="97"/>
                  </a:cubicBezTo>
                  <a:cubicBezTo>
                    <a:pt x="59" y="97"/>
                    <a:pt x="64" y="87"/>
                    <a:pt x="67" y="75"/>
                  </a:cubicBezTo>
                  <a:lnTo>
                    <a:pt x="88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058840" y="654120"/>
              <a:ext cx="92160" cy="487440"/>
            </a:xfrm>
            <a:custGeom>
              <a:avLst/>
              <a:gdLst/>
              <a:ahLst/>
              <a:rect l="l" t="t" r="r" b="b"/>
              <a:pathLst>
                <a:path w="50" h="265">
                  <a:moveTo>
                    <a:pt x="50" y="265"/>
                  </a:moveTo>
                  <a:lnTo>
                    <a:pt x="0" y="265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0" y="265"/>
                  </a:lnTo>
                  <a:lnTo>
                    <a:pt x="50" y="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206800" y="785880"/>
              <a:ext cx="309240" cy="36504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50" y="34"/>
                  </a:moveTo>
                  <a:cubicBezTo>
                    <a:pt x="50" y="25"/>
                    <a:pt x="46" y="16"/>
                    <a:pt x="36" y="16"/>
                  </a:cubicBezTo>
                  <a:cubicBezTo>
                    <a:pt x="26" y="16"/>
                    <a:pt x="22" y="25"/>
                    <a:pt x="22" y="34"/>
                  </a:cubicBezTo>
                  <a:lnTo>
                    <a:pt x="50" y="34"/>
                  </a:lnTo>
                  <a:close/>
                  <a:moveTo>
                    <a:pt x="21" y="47"/>
                  </a:moveTo>
                  <a:cubicBezTo>
                    <a:pt x="21" y="57"/>
                    <a:pt x="26" y="68"/>
                    <a:pt x="37" y="68"/>
                  </a:cubicBezTo>
                  <a:cubicBezTo>
                    <a:pt x="44" y="68"/>
                    <a:pt x="48" y="64"/>
                    <a:pt x="51" y="57"/>
                  </a:cubicBezTo>
                  <a:cubicBezTo>
                    <a:pt x="71" y="59"/>
                    <a:pt x="71" y="59"/>
                    <a:pt x="71" y="59"/>
                  </a:cubicBezTo>
                  <a:cubicBezTo>
                    <a:pt x="66" y="75"/>
                    <a:pt x="51" y="84"/>
                    <a:pt x="35" y="84"/>
                  </a:cubicBezTo>
                  <a:cubicBezTo>
                    <a:pt x="12" y="84"/>
                    <a:pt x="0" y="63"/>
                    <a:pt x="0" y="42"/>
                  </a:cubicBezTo>
                  <a:cubicBezTo>
                    <a:pt x="0" y="21"/>
                    <a:pt x="12" y="0"/>
                    <a:pt x="35" y="0"/>
                  </a:cubicBezTo>
                  <a:cubicBezTo>
                    <a:pt x="56" y="0"/>
                    <a:pt x="71" y="10"/>
                    <a:pt x="71" y="47"/>
                  </a:cubicBezTo>
                  <a:lnTo>
                    <a:pt x="21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867040" y="785880"/>
              <a:ext cx="309600" cy="36504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49" y="34"/>
                  </a:moveTo>
                  <a:cubicBezTo>
                    <a:pt x="49" y="25"/>
                    <a:pt x="46" y="16"/>
                    <a:pt x="36" y="16"/>
                  </a:cubicBezTo>
                  <a:cubicBezTo>
                    <a:pt x="26" y="16"/>
                    <a:pt x="22" y="25"/>
                    <a:pt x="22" y="34"/>
                  </a:cubicBezTo>
                  <a:lnTo>
                    <a:pt x="49" y="34"/>
                  </a:lnTo>
                  <a:close/>
                  <a:moveTo>
                    <a:pt x="21" y="47"/>
                  </a:moveTo>
                  <a:cubicBezTo>
                    <a:pt x="20" y="57"/>
                    <a:pt x="26" y="68"/>
                    <a:pt x="37" y="68"/>
                  </a:cubicBezTo>
                  <a:cubicBezTo>
                    <a:pt x="44" y="68"/>
                    <a:pt x="48" y="64"/>
                    <a:pt x="50" y="57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66" y="75"/>
                    <a:pt x="50" y="84"/>
                    <a:pt x="35" y="84"/>
                  </a:cubicBezTo>
                  <a:cubicBezTo>
                    <a:pt x="11" y="84"/>
                    <a:pt x="0" y="63"/>
                    <a:pt x="0" y="42"/>
                  </a:cubicBezTo>
                  <a:cubicBezTo>
                    <a:pt x="0" y="21"/>
                    <a:pt x="11" y="0"/>
                    <a:pt x="35" y="0"/>
                  </a:cubicBezTo>
                  <a:cubicBezTo>
                    <a:pt x="55" y="0"/>
                    <a:pt x="71" y="10"/>
                    <a:pt x="70" y="47"/>
                  </a:cubicBezTo>
                  <a:lnTo>
                    <a:pt x="21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38360" y="793800"/>
              <a:ext cx="312840" cy="347760"/>
            </a:xfrm>
            <a:custGeom>
              <a:avLst/>
              <a:gdLst/>
              <a:ahLst/>
              <a:rect l="l" t="t" r="r" b="b"/>
              <a:pathLst>
                <a:path w="170" h="189">
                  <a:moveTo>
                    <a:pt x="113" y="189"/>
                  </a:moveTo>
                  <a:lnTo>
                    <a:pt x="59" y="189"/>
                  </a:lnTo>
                  <a:lnTo>
                    <a:pt x="0" y="0"/>
                  </a:lnTo>
                  <a:lnTo>
                    <a:pt x="52" y="0"/>
                  </a:lnTo>
                  <a:lnTo>
                    <a:pt x="85" y="139"/>
                  </a:lnTo>
                  <a:lnTo>
                    <a:pt x="87" y="139"/>
                  </a:lnTo>
                  <a:lnTo>
                    <a:pt x="120" y="0"/>
                  </a:lnTo>
                  <a:lnTo>
                    <a:pt x="170" y="0"/>
                  </a:lnTo>
                  <a:lnTo>
                    <a:pt x="113" y="189"/>
                  </a:lnTo>
                  <a:lnTo>
                    <a:pt x="113" y="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38560" y="654120"/>
              <a:ext cx="92160" cy="487440"/>
            </a:xfrm>
            <a:custGeom>
              <a:avLst/>
              <a:gdLst/>
              <a:ahLst/>
              <a:rect l="l" t="t" r="r" b="b"/>
              <a:pathLst>
                <a:path w="50" h="265">
                  <a:moveTo>
                    <a:pt x="50" y="265"/>
                  </a:moveTo>
                  <a:lnTo>
                    <a:pt x="0" y="265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0" y="265"/>
                  </a:lnTo>
                  <a:lnTo>
                    <a:pt x="50" y="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81480" y="785880"/>
              <a:ext cx="312480" cy="365040"/>
            </a:xfrm>
            <a:custGeom>
              <a:avLst/>
              <a:gdLst/>
              <a:ahLst/>
              <a:rect l="l" t="t" r="r" b="b"/>
              <a:pathLst>
                <a:path w="72" h="84">
                  <a:moveTo>
                    <a:pt x="48" y="45"/>
                  </a:moveTo>
                  <a:cubicBezTo>
                    <a:pt x="39" y="47"/>
                    <a:pt x="21" y="48"/>
                    <a:pt x="21" y="60"/>
                  </a:cubicBezTo>
                  <a:cubicBezTo>
                    <a:pt x="21" y="64"/>
                    <a:pt x="24" y="68"/>
                    <a:pt x="29" y="68"/>
                  </a:cubicBezTo>
                  <a:cubicBezTo>
                    <a:pt x="37" y="68"/>
                    <a:pt x="43" y="63"/>
                    <a:pt x="48" y="58"/>
                  </a:cubicBezTo>
                  <a:lnTo>
                    <a:pt x="48" y="45"/>
                  </a:lnTo>
                  <a:close/>
                  <a:moveTo>
                    <a:pt x="49" y="75"/>
                  </a:moveTo>
                  <a:cubicBezTo>
                    <a:pt x="41" y="81"/>
                    <a:pt x="36" y="84"/>
                    <a:pt x="26" y="84"/>
                  </a:cubicBezTo>
                  <a:cubicBezTo>
                    <a:pt x="12" y="84"/>
                    <a:pt x="0" y="75"/>
                    <a:pt x="0" y="60"/>
                  </a:cubicBezTo>
                  <a:cubicBezTo>
                    <a:pt x="0" y="37"/>
                    <a:pt x="30" y="33"/>
                    <a:pt x="48" y="31"/>
                  </a:cubicBezTo>
                  <a:cubicBezTo>
                    <a:pt x="49" y="20"/>
                    <a:pt x="45" y="16"/>
                    <a:pt x="37" y="16"/>
                  </a:cubicBezTo>
                  <a:cubicBezTo>
                    <a:pt x="31" y="16"/>
                    <a:pt x="26" y="19"/>
                    <a:pt x="24" y="26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9" y="5"/>
                    <a:pt x="20" y="0"/>
                    <a:pt x="37" y="0"/>
                  </a:cubicBezTo>
                  <a:cubicBezTo>
                    <a:pt x="59" y="0"/>
                    <a:pt x="69" y="10"/>
                    <a:pt x="69" y="25"/>
                  </a:cubicBezTo>
                  <a:cubicBezTo>
                    <a:pt x="69" y="65"/>
                    <a:pt x="69" y="65"/>
                    <a:pt x="69" y="65"/>
                  </a:cubicBezTo>
                  <a:cubicBezTo>
                    <a:pt x="69" y="71"/>
                    <a:pt x="69" y="77"/>
                    <a:pt x="72" y="82"/>
                  </a:cubicBezTo>
                  <a:cubicBezTo>
                    <a:pt x="51" y="82"/>
                    <a:pt x="51" y="82"/>
                    <a:pt x="51" y="82"/>
                  </a:cubicBezTo>
                  <a:cubicBezTo>
                    <a:pt x="49" y="79"/>
                    <a:pt x="49" y="75"/>
                    <a:pt x="49" y="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755880" y="785880"/>
              <a:ext cx="290520" cy="35712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21" y="10"/>
                  </a:moveTo>
                  <a:cubicBezTo>
                    <a:pt x="28" y="4"/>
                    <a:pt x="36" y="0"/>
                    <a:pt x="45" y="0"/>
                  </a:cubicBezTo>
                  <a:cubicBezTo>
                    <a:pt x="54" y="0"/>
                    <a:pt x="67" y="5"/>
                    <a:pt x="67" y="25"/>
                  </a:cubicBezTo>
                  <a:cubicBezTo>
                    <a:pt x="67" y="82"/>
                    <a:pt x="67" y="82"/>
                    <a:pt x="67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34"/>
                    <a:pt x="45" y="34"/>
                    <a:pt x="45" y="34"/>
                  </a:cubicBezTo>
                  <a:cubicBezTo>
                    <a:pt x="45" y="27"/>
                    <a:pt x="46" y="17"/>
                    <a:pt x="36" y="17"/>
                  </a:cubicBezTo>
                  <a:cubicBezTo>
                    <a:pt x="30" y="17"/>
                    <a:pt x="25" y="22"/>
                    <a:pt x="21" y="26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1" y="2"/>
                    <a:pt x="21" y="2"/>
                    <a:pt x="21" y="2"/>
                  </a:cubicBezTo>
                  <a:lnTo>
                    <a:pt x="2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16280" y="650880"/>
              <a:ext cx="384480" cy="498600"/>
            </a:xfrm>
            <a:custGeom>
              <a:avLst/>
              <a:gdLst/>
              <a:ahLst/>
              <a:rect l="l" t="t" r="r" b="b"/>
              <a:pathLst>
                <a:path w="88" h="115">
                  <a:moveTo>
                    <a:pt x="88" y="78"/>
                  </a:moveTo>
                  <a:cubicBezTo>
                    <a:pt x="85" y="101"/>
                    <a:pt x="69" y="115"/>
                    <a:pt x="46" y="115"/>
                  </a:cubicBezTo>
                  <a:cubicBezTo>
                    <a:pt x="14" y="115"/>
                    <a:pt x="0" y="86"/>
                    <a:pt x="0" y="57"/>
                  </a:cubicBezTo>
                  <a:cubicBezTo>
                    <a:pt x="0" y="29"/>
                    <a:pt x="14" y="0"/>
                    <a:pt x="46" y="0"/>
                  </a:cubicBezTo>
                  <a:cubicBezTo>
                    <a:pt x="69" y="0"/>
                    <a:pt x="85" y="13"/>
                    <a:pt x="88" y="37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5" y="28"/>
                    <a:pt x="60" y="17"/>
                    <a:pt x="46" y="17"/>
                  </a:cubicBezTo>
                  <a:cubicBezTo>
                    <a:pt x="27" y="17"/>
                    <a:pt x="23" y="43"/>
                    <a:pt x="23" y="57"/>
                  </a:cubicBezTo>
                  <a:cubicBezTo>
                    <a:pt x="23" y="72"/>
                    <a:pt x="27" y="97"/>
                    <a:pt x="46" y="97"/>
                  </a:cubicBezTo>
                  <a:cubicBezTo>
                    <a:pt x="60" y="97"/>
                    <a:pt x="65" y="87"/>
                    <a:pt x="67" y="75"/>
                  </a:cubicBezTo>
                  <a:lnTo>
                    <a:pt x="88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54760" y="654120"/>
              <a:ext cx="95040" cy="487440"/>
            </a:xfrm>
            <a:custGeom>
              <a:avLst/>
              <a:gdLst/>
              <a:ahLst/>
              <a:rect l="l" t="t" r="r" b="b"/>
              <a:pathLst>
                <a:path w="52" h="265">
                  <a:moveTo>
                    <a:pt x="52" y="265"/>
                  </a:moveTo>
                  <a:lnTo>
                    <a:pt x="0" y="265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2" y="265"/>
                  </a:lnTo>
                  <a:lnTo>
                    <a:pt x="52" y="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226120" y="654120"/>
              <a:ext cx="95040" cy="487440"/>
            </a:xfrm>
            <a:custGeom>
              <a:avLst/>
              <a:gdLst/>
              <a:ahLst/>
              <a:rect l="l" t="t" r="r" b="b"/>
              <a:pathLst>
                <a:path w="52" h="265">
                  <a:moveTo>
                    <a:pt x="52" y="265"/>
                  </a:moveTo>
                  <a:lnTo>
                    <a:pt x="0" y="265"/>
                  </a:lnTo>
                  <a:lnTo>
                    <a:pt x="0" y="76"/>
                  </a:lnTo>
                  <a:lnTo>
                    <a:pt x="52" y="76"/>
                  </a:lnTo>
                  <a:lnTo>
                    <a:pt x="52" y="265"/>
                  </a:lnTo>
                  <a:lnTo>
                    <a:pt x="52" y="265"/>
                  </a:lnTo>
                  <a:close/>
                  <a:moveTo>
                    <a:pt x="52" y="47"/>
                  </a:moveTo>
                  <a:lnTo>
                    <a:pt x="0" y="47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2" y="47"/>
                  </a:lnTo>
                  <a:lnTo>
                    <a:pt x="52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96040" y="785880"/>
              <a:ext cx="290520" cy="35712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21" y="10"/>
                  </a:moveTo>
                  <a:cubicBezTo>
                    <a:pt x="28" y="4"/>
                    <a:pt x="36" y="0"/>
                    <a:pt x="45" y="0"/>
                  </a:cubicBezTo>
                  <a:cubicBezTo>
                    <a:pt x="54" y="0"/>
                    <a:pt x="67" y="5"/>
                    <a:pt x="67" y="25"/>
                  </a:cubicBezTo>
                  <a:cubicBezTo>
                    <a:pt x="67" y="82"/>
                    <a:pt x="67" y="82"/>
                    <a:pt x="67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34"/>
                    <a:pt x="45" y="34"/>
                    <a:pt x="45" y="34"/>
                  </a:cubicBezTo>
                  <a:cubicBezTo>
                    <a:pt x="45" y="27"/>
                    <a:pt x="46" y="17"/>
                    <a:pt x="36" y="17"/>
                  </a:cubicBezTo>
                  <a:cubicBezTo>
                    <a:pt x="30" y="17"/>
                    <a:pt x="25" y="22"/>
                    <a:pt x="21" y="26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1" y="2"/>
                    <a:pt x="21" y="2"/>
                    <a:pt x="21" y="2"/>
                  </a:cubicBezTo>
                  <a:lnTo>
                    <a:pt x="2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761080" y="654120"/>
              <a:ext cx="92160" cy="487440"/>
            </a:xfrm>
            <a:custGeom>
              <a:avLst/>
              <a:gdLst/>
              <a:ahLst/>
              <a:rect l="l" t="t" r="r" b="b"/>
              <a:pathLst>
                <a:path w="50" h="265">
                  <a:moveTo>
                    <a:pt x="50" y="265"/>
                  </a:moveTo>
                  <a:lnTo>
                    <a:pt x="0" y="265"/>
                  </a:lnTo>
                  <a:lnTo>
                    <a:pt x="0" y="76"/>
                  </a:lnTo>
                  <a:lnTo>
                    <a:pt x="50" y="76"/>
                  </a:lnTo>
                  <a:lnTo>
                    <a:pt x="50" y="265"/>
                  </a:lnTo>
                  <a:lnTo>
                    <a:pt x="50" y="265"/>
                  </a:lnTo>
                  <a:close/>
                  <a:moveTo>
                    <a:pt x="50" y="47"/>
                  </a:moveTo>
                  <a:lnTo>
                    <a:pt x="0" y="47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0" y="47"/>
                  </a:lnTo>
                  <a:lnTo>
                    <a:pt x="5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913360" y="785880"/>
              <a:ext cx="300240" cy="36504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69" y="56"/>
                  </a:moveTo>
                  <a:cubicBezTo>
                    <a:pt x="65" y="73"/>
                    <a:pt x="53" y="84"/>
                    <a:pt x="35" y="84"/>
                  </a:cubicBezTo>
                  <a:cubicBezTo>
                    <a:pt x="12" y="84"/>
                    <a:pt x="0" y="63"/>
                    <a:pt x="0" y="42"/>
                  </a:cubicBezTo>
                  <a:cubicBezTo>
                    <a:pt x="0" y="21"/>
                    <a:pt x="11" y="0"/>
                    <a:pt x="35" y="0"/>
                  </a:cubicBezTo>
                  <a:cubicBezTo>
                    <a:pt x="53" y="0"/>
                    <a:pt x="65" y="11"/>
                    <a:pt x="69" y="28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8" y="24"/>
                    <a:pt x="46" y="16"/>
                    <a:pt x="35" y="16"/>
                  </a:cubicBezTo>
                  <a:cubicBezTo>
                    <a:pt x="23" y="16"/>
                    <a:pt x="21" y="32"/>
                    <a:pt x="21" y="42"/>
                  </a:cubicBezTo>
                  <a:cubicBezTo>
                    <a:pt x="21" y="52"/>
                    <a:pt x="23" y="68"/>
                    <a:pt x="35" y="68"/>
                  </a:cubicBezTo>
                  <a:cubicBezTo>
                    <a:pt x="46" y="68"/>
                    <a:pt x="47" y="61"/>
                    <a:pt x="49" y="54"/>
                  </a:cubicBezTo>
                  <a:lnTo>
                    <a:pt x="69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8320" y="654120"/>
              <a:ext cx="320760" cy="495360"/>
            </a:xfrm>
            <a:custGeom>
              <a:avLst/>
              <a:gdLst/>
              <a:ahLst/>
              <a:rect l="l" t="t" r="r" b="b"/>
              <a:pathLst>
                <a:path w="74" h="114">
                  <a:moveTo>
                    <a:pt x="50" y="87"/>
                  </a:moveTo>
                  <a:cubicBezTo>
                    <a:pt x="46" y="92"/>
                    <a:pt x="42" y="96"/>
                    <a:pt x="36" y="96"/>
                  </a:cubicBezTo>
                  <a:cubicBezTo>
                    <a:pt x="23" y="96"/>
                    <a:pt x="21" y="80"/>
                    <a:pt x="21" y="71"/>
                  </a:cubicBezTo>
                  <a:cubicBezTo>
                    <a:pt x="21" y="62"/>
                    <a:pt x="24" y="47"/>
                    <a:pt x="35" y="47"/>
                  </a:cubicBezTo>
                  <a:cubicBezTo>
                    <a:pt x="42" y="47"/>
                    <a:pt x="46" y="51"/>
                    <a:pt x="50" y="56"/>
                  </a:cubicBezTo>
                  <a:lnTo>
                    <a:pt x="50" y="87"/>
                  </a:lnTo>
                  <a:close/>
                  <a:moveTo>
                    <a:pt x="71" y="98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4" y="34"/>
                    <a:pt x="38" y="30"/>
                    <a:pt x="30" y="30"/>
                  </a:cubicBezTo>
                  <a:cubicBezTo>
                    <a:pt x="18" y="30"/>
                    <a:pt x="0" y="40"/>
                    <a:pt x="0" y="70"/>
                  </a:cubicBezTo>
                  <a:cubicBezTo>
                    <a:pt x="0" y="104"/>
                    <a:pt x="15" y="114"/>
                    <a:pt x="32" y="114"/>
                  </a:cubicBezTo>
                  <a:cubicBezTo>
                    <a:pt x="40" y="114"/>
                    <a:pt x="45" y="111"/>
                    <a:pt x="52" y="105"/>
                  </a:cubicBezTo>
                  <a:cubicBezTo>
                    <a:pt x="52" y="105"/>
                    <a:pt x="52" y="109"/>
                    <a:pt x="54" y="112"/>
                  </a:cubicBezTo>
                  <a:cubicBezTo>
                    <a:pt x="74" y="112"/>
                    <a:pt x="74" y="112"/>
                    <a:pt x="74" y="112"/>
                  </a:cubicBezTo>
                  <a:cubicBezTo>
                    <a:pt x="72" y="108"/>
                    <a:pt x="71" y="103"/>
                    <a:pt x="71" y="9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"/>
          <p:cNvSpPr/>
          <p:nvPr/>
        </p:nvSpPr>
        <p:spPr>
          <a:xfrm>
            <a:off x="882720" y="3581280"/>
            <a:ext cx="779472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9255240" y="3581280"/>
            <a:ext cx="779436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17627760" y="3581280"/>
            <a:ext cx="779436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25999920" y="3581280"/>
            <a:ext cx="779472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34374240" y="3581280"/>
            <a:ext cx="779436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2149560" y="4280040"/>
            <a:ext cx="3867768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23960" indent="-72396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1" marL="1800360" indent="-71460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2" marL="2736720" indent="-57312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3" marL="3824280" indent="-56844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4" marL="5068800" indent="-70956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5" marL="5068800" indent="-70956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6" marL="5068800" indent="-70956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68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81280" y="6908760"/>
            <a:ext cx="3688884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0160" rIns="290160" tIns="145080" bIns="1450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  <a:tab algn="l" pos="34023240"/>
                <a:tab algn="l" pos="34747200"/>
                <a:tab algn="l" pos="35471160"/>
                <a:tab algn="l" pos="36195120"/>
              </a:tabLst>
            </a:pPr>
            <a:r>
              <a:rPr b="0" lang="en-GB" sz="12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itle of Presentation </a:t>
            </a:r>
            <a:br>
              <a:rPr sz="12100"/>
            </a:br>
            <a:r>
              <a:rPr b="0" lang="en-GB" sz="12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ial Regular 38pt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29080" y="13614480"/>
            <a:ext cx="3360420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0160" rIns="290160" tIns="145080" bIns="1450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e 15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hor Name 15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hor Title 15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38760" y="3027240"/>
            <a:ext cx="13968360" cy="123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3.pn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68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8879920" y="6045120"/>
            <a:ext cx="2290680" cy="1387440"/>
            <a:chOff x="28879920" y="6045120"/>
            <a:chExt cx="2290680" cy="138744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28879920" y="6045120"/>
              <a:ext cx="2290680" cy="13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9337120" y="6869160"/>
              <a:ext cx="14349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ffff00"/>
                  </a:solidFill>
                  <a:latin typeface="Arial"/>
                </a:rPr>
                <a:t>Ontology &amp; Knowledge Ba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4707600" y="394812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95480" y="394812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018000" y="394812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617040" y="394812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13560" y="555120"/>
            <a:ext cx="28364040" cy="26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920" rIns="385920" tIns="192960" bIns="192960" anchor="ctr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Semantic Integration of Clinical Data for Outcomes Research and Repor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</a:tabLst>
            </a:pPr>
            <a:r>
              <a:rPr b="1" i="1" lang="en-GB" sz="4800" spc="-1" strike="noStrike">
                <a:solidFill>
                  <a:srgbClr val="ffffff"/>
                </a:solidFill>
                <a:latin typeface="Arial"/>
              </a:rPr>
              <a:t>Christopher Pierce, Chimezie Ogbuji, Sivaram Arabandi and John Cla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Heart and Vascular Institute, Cleveland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1440" y="395280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7960" y="4071960"/>
            <a:ext cx="667080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spAutoFit/>
          </a:bodyPr>
          <a:p>
            <a:pPr algn="ctr">
              <a:lnSpc>
                <a:spcPct val="9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885240" y="4048200"/>
            <a:ext cx="66042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noAutofit/>
          </a:bodyPr>
          <a:p>
            <a:pPr algn="ctr">
              <a:lnSpc>
                <a:spcPct val="9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65760" y="4067280"/>
            <a:ext cx="6399360" cy="531720"/>
          </a:xfrm>
          <a:prstGeom prst="rect">
            <a:avLst/>
          </a:prstGeom>
          <a:solidFill>
            <a:srgbClr val="076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noAutofit/>
          </a:bodyPr>
          <a:p>
            <a:pPr algn="ctr">
              <a:lnSpc>
                <a:spcPct val="9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708040" y="4067280"/>
            <a:ext cx="6216840" cy="506160"/>
          </a:xfrm>
          <a:prstGeom prst="rect">
            <a:avLst/>
          </a:prstGeom>
          <a:solidFill>
            <a:srgbClr val="076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noAutofit/>
          </a:bodyPr>
          <a:p>
            <a:pPr algn="ctr">
              <a:lnSpc>
                <a:spcPct val="9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Query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805880" y="4076640"/>
            <a:ext cx="6942240" cy="523800"/>
          </a:xfrm>
          <a:prstGeom prst="rect">
            <a:avLst/>
          </a:prstGeom>
          <a:solidFill>
            <a:srgbClr val="076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noAutofit/>
          </a:bodyPr>
          <a:p>
            <a:pPr algn="ctr">
              <a:lnSpc>
                <a:spcPct val="9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pplications and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141560" y="12053880"/>
            <a:ext cx="7315200" cy="5651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075200" y="14701680"/>
            <a:ext cx="226368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mpletely Redu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27080" y="12111120"/>
            <a:ext cx="1851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ndant within a few 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12949200"/>
            <a:ext cx="1371600" cy="53352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27280" y="12949200"/>
            <a:ext cx="1295280" cy="175248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197480" y="12625560"/>
            <a:ext cx="98280" cy="78084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749560" y="12415680"/>
            <a:ext cx="841320" cy="15264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3600000">
            <a:off x="6418440" y="13731480"/>
            <a:ext cx="1627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gistry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5640" y="12477600"/>
            <a:ext cx="1627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gistr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80000">
            <a:off x="5808600" y="16631280"/>
            <a:ext cx="1627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gistry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12949200"/>
            <a:ext cx="2057400" cy="129528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3560" y="11806200"/>
            <a:ext cx="28224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a unique to single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965440" y="11700000"/>
            <a:ext cx="5432400" cy="3663720"/>
            <a:chOff x="26965440" y="11700000"/>
            <a:chExt cx="5432400" cy="3663720"/>
          </a:xfrm>
        </p:grpSpPr>
        <p:sp>
          <p:nvSpPr>
            <p:cNvPr id="136" name=""/>
            <p:cNvSpPr/>
            <p:nvPr/>
          </p:nvSpPr>
          <p:spPr>
            <a:xfrm>
              <a:off x="26965440" y="11700000"/>
              <a:ext cx="5432400" cy="3663720"/>
            </a:xfrm>
            <a:prstGeom prst="roundRect">
              <a:avLst>
                <a:gd name="adj" fmla="val 4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28627560" y="11700000"/>
              <a:ext cx="3770280" cy="366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27209880" y="12134880"/>
              <a:ext cx="1603080" cy="1579680"/>
              <a:chOff x="27209880" y="12134880"/>
              <a:chExt cx="1603080" cy="1579680"/>
            </a:xfrm>
          </p:grpSpPr>
          <p:pic>
            <p:nvPicPr>
              <p:cNvPr id="13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209880" y="12558600"/>
                <a:ext cx="1137960" cy="11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27287640" y="13069800"/>
                <a:ext cx="1295280" cy="39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anchor="t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alibri"/>
                  </a:rPr>
                  <a:t>Investi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7760680" y="12134880"/>
                <a:ext cx="1052280" cy="500040"/>
              </a:xfrm>
              <a:custGeom>
                <a:avLst/>
                <a:gdLst>
                  <a:gd name="textAreaLeft" fmla="*/ 0 w 1052280"/>
                  <a:gd name="textAreaRight" fmla="*/ 1052640 w 105228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1051560" h="652780">
                    <a:moveTo>
                      <a:pt x="0" y="652780"/>
                    </a:moveTo>
                    <a:cubicBezTo>
                      <a:pt x="95250" y="430530"/>
                      <a:pt x="190500" y="208280"/>
                      <a:pt x="365760" y="104140"/>
                    </a:cubicBezTo>
                    <a:cubicBezTo>
                      <a:pt x="541020" y="0"/>
                      <a:pt x="796290" y="13970"/>
                      <a:pt x="1051560" y="27940"/>
                    </a:cubicBezTo>
                  </a:path>
                </a:pathLst>
              </a:custGeom>
              <a:noFill/>
              <a:ln w="38160">
                <a:solidFill>
                  <a:srgbClr val="98480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7287640" y="13301640"/>
                <a:ext cx="1295280" cy="39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anchor="t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alibri"/>
                  </a:rPr>
                  <a:t>gato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30313440" y="9248760"/>
            <a:ext cx="1676160" cy="1066680"/>
          </a:xfrm>
          <a:prstGeom prst="leftArrow">
            <a:avLst>
              <a:gd name="adj1" fmla="val 50000"/>
              <a:gd name="adj2" fmla="val 3928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Ref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Conv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Integ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6212680" y="8793000"/>
            <a:ext cx="4187880" cy="2055960"/>
            <a:chOff x="26212680" y="8793000"/>
            <a:chExt cx="4187880" cy="2055960"/>
          </a:xfrm>
        </p:grpSpPr>
        <p:pic>
          <p:nvPicPr>
            <p:cNvPr id="145" name="" descr=""/>
            <p:cNvPicPr/>
            <p:nvPr/>
          </p:nvPicPr>
          <p:blipFill>
            <a:blip r:embed="rId5"/>
            <a:stretch/>
          </p:blipFill>
          <p:spPr>
            <a:xfrm>
              <a:off x="26212680" y="8793000"/>
              <a:ext cx="4187880" cy="20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6289000" y="8869320"/>
              <a:ext cx="4032360" cy="19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e8e7ed"/>
                  </a:solidFill>
                  <a:latin typeface="Arial"/>
                </a:rPr>
                <a:t>CCF SemanticDB</a:t>
              </a:r>
              <a:r>
                <a:rPr b="1" lang="en-GB" sz="1400" spc="-1" strike="noStrike">
                  <a:solidFill>
                    <a:srgbClr val="e8e7ed"/>
                  </a:solidFill>
                  <a:latin typeface="Arial"/>
                  <a:ea typeface="Arial"/>
                </a:rPr>
                <a:t>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1602240" y="5495760"/>
            <a:ext cx="1960560" cy="2630520"/>
            <a:chOff x="31602240" y="5495760"/>
            <a:chExt cx="1960560" cy="2630520"/>
          </a:xfrm>
        </p:grpSpPr>
        <p:pic>
          <p:nvPicPr>
            <p:cNvPr id="148" name="" descr=""/>
            <p:cNvPicPr/>
            <p:nvPr/>
          </p:nvPicPr>
          <p:blipFill>
            <a:blip r:embed="rId6"/>
            <a:stretch/>
          </p:blipFill>
          <p:spPr>
            <a:xfrm>
              <a:off x="31602240" y="5495760"/>
              <a:ext cx="1960560" cy="26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1629240" y="5522760"/>
              <a:ext cx="1913040" cy="25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1937400" y="5602320"/>
            <a:ext cx="127152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Tahoma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Tahoma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2241960" y="6059520"/>
            <a:ext cx="746280" cy="1165320"/>
            <a:chOff x="32241960" y="6059520"/>
            <a:chExt cx="746280" cy="1165320"/>
          </a:xfrm>
        </p:grpSpPr>
        <p:sp>
          <p:nvSpPr>
            <p:cNvPr id="152" name=""/>
            <p:cNvSpPr/>
            <p:nvPr/>
          </p:nvSpPr>
          <p:spPr>
            <a:xfrm flipH="1">
              <a:off x="32443200" y="6303960"/>
              <a:ext cx="32724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2469120" y="6988320"/>
              <a:ext cx="3268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7"/>
            <a:stretch/>
          </p:blipFill>
          <p:spPr>
            <a:xfrm>
              <a:off x="32543640" y="6059520"/>
              <a:ext cx="44460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8"/>
            <a:stretch/>
          </p:blipFill>
          <p:spPr>
            <a:xfrm>
              <a:off x="32543640" y="6400800"/>
              <a:ext cx="44460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9"/>
            <a:stretch/>
          </p:blipFill>
          <p:spPr>
            <a:xfrm>
              <a:off x="32543640" y="6742080"/>
              <a:ext cx="4446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2464440" y="6284880"/>
              <a:ext cx="1440" cy="7653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0"/>
            <a:stretch/>
          </p:blipFill>
          <p:spPr>
            <a:xfrm>
              <a:off x="32241960" y="6059520"/>
              <a:ext cx="44136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1"/>
            <a:stretch/>
          </p:blipFill>
          <p:spPr>
            <a:xfrm>
              <a:off x="32241960" y="6400800"/>
              <a:ext cx="44136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12"/>
            <a:stretch/>
          </p:blipFill>
          <p:spPr>
            <a:xfrm>
              <a:off x="32241960" y="6742080"/>
              <a:ext cx="44136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2335920" y="6164280"/>
              <a:ext cx="24768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645520" y="6164280"/>
              <a:ext cx="24732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335920" y="6504120"/>
              <a:ext cx="24768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645520" y="6504120"/>
              <a:ext cx="24732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335920" y="6845400"/>
              <a:ext cx="24768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645520" y="6845400"/>
              <a:ext cx="24732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8027440" y="10022040"/>
            <a:ext cx="1981080" cy="610920"/>
          </a:xfrm>
          <a:prstGeom prst="flowChartMagneticDisk">
            <a:avLst/>
          </a:prstGeom>
          <a:gradFill rotWithShape="0">
            <a:gsLst>
              <a:gs pos="0">
                <a:srgbClr val="eae9ef"/>
              </a:gs>
              <a:gs pos="100000">
                <a:srgbClr val="5a92e4"/>
              </a:gs>
            </a:gsLst>
            <a:lin ang="13500000"/>
          </a:gra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CF SQL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027440" y="9550440"/>
            <a:ext cx="1981080" cy="625320"/>
          </a:xfrm>
          <a:prstGeom prst="flowChartMagneticDisk">
            <a:avLst/>
          </a:prstGeom>
          <a:gradFill rotWithShape="0">
            <a:gsLst>
              <a:gs pos="0">
                <a:srgbClr val="dee6f7"/>
              </a:gs>
              <a:gs pos="100000">
                <a:srgbClr val="8cadea"/>
              </a:gs>
            </a:gsLst>
            <a:lin ang="13500000"/>
          </a:gra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DF Triple-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027440" y="9107640"/>
            <a:ext cx="1981080" cy="610920"/>
          </a:xfrm>
          <a:prstGeom prst="flowChartMagneticDisk">
            <a:avLst/>
          </a:prstGeom>
          <a:gradFill rotWithShape="0">
            <a:gsLst>
              <a:gs pos="0">
                <a:srgbClr val="ffebfa"/>
              </a:gs>
              <a:gs pos="100000">
                <a:srgbClr val="0c41b8"/>
              </a:gs>
            </a:gsLst>
            <a:lin ang="13500000"/>
          </a:gra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PARQL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1583160" y="7531200"/>
            <a:ext cx="2006640" cy="707760"/>
            <a:chOff x="31583160" y="7531200"/>
            <a:chExt cx="2006640" cy="707760"/>
          </a:xfrm>
        </p:grpSpPr>
        <p:pic>
          <p:nvPicPr>
            <p:cNvPr id="171" name="" descr=""/>
            <p:cNvPicPr/>
            <p:nvPr/>
          </p:nvPicPr>
          <p:blipFill>
            <a:blip r:embed="rId13"/>
            <a:stretch/>
          </p:blipFill>
          <p:spPr>
            <a:xfrm>
              <a:off x="31583160" y="7531200"/>
              <a:ext cx="200664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31694400" y="7645320"/>
              <a:ext cx="17766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Semantic Knowledge-Source Integ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6322480" y="5934240"/>
            <a:ext cx="1941480" cy="1180800"/>
            <a:chOff x="26322480" y="5934240"/>
            <a:chExt cx="1941480" cy="1180800"/>
          </a:xfrm>
        </p:grpSpPr>
        <p:pic>
          <p:nvPicPr>
            <p:cNvPr id="174" name="" descr=""/>
            <p:cNvPicPr/>
            <p:nvPr/>
          </p:nvPicPr>
          <p:blipFill>
            <a:blip r:embed="rId14"/>
            <a:stretch/>
          </p:blipFill>
          <p:spPr>
            <a:xfrm>
              <a:off x="26322480" y="5934240"/>
              <a:ext cx="194148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6438400" y="6045120"/>
              <a:ext cx="17078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Query Form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6322480" y="7226280"/>
            <a:ext cx="1941480" cy="1181160"/>
            <a:chOff x="26322480" y="7226280"/>
            <a:chExt cx="1941480" cy="1181160"/>
          </a:xfrm>
        </p:grpSpPr>
        <p:pic>
          <p:nvPicPr>
            <p:cNvPr id="177" name="" descr=""/>
            <p:cNvPicPr/>
            <p:nvPr/>
          </p:nvPicPr>
          <p:blipFill>
            <a:blip r:embed="rId15"/>
            <a:stretch/>
          </p:blipFill>
          <p:spPr>
            <a:xfrm>
              <a:off x="26322480" y="7226280"/>
              <a:ext cx="194148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6438400" y="7340760"/>
              <a:ext cx="170784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swer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Explo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16"/>
          <a:stretch/>
        </p:blipFill>
        <p:spPr>
          <a:xfrm>
            <a:off x="31227840" y="8794800"/>
            <a:ext cx="2361960" cy="1825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1913640" y="9477360"/>
            <a:ext cx="1295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g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2521680" y="8158320"/>
            <a:ext cx="7920" cy="69048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116640" y="5027760"/>
            <a:ext cx="705168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manticDB Supports Three Modes of Data Coll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lurp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programmatic import of legac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ee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push and pull data feeds from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bstra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auto-generated forms for manual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7"/>
          <a:stretch/>
        </p:blipFill>
        <p:spPr>
          <a:xfrm>
            <a:off x="18388080" y="8639280"/>
            <a:ext cx="6296040" cy="8629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1231920" y="5064120"/>
            <a:ext cx="7112160" cy="65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urrent Data Management Challen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ragmented &amp; Redundant Data Collection an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Due to poor database 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High data collection and integr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expressive Model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Data structures contain impli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Inadequate for modeling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No native support for inference &amp; intelligent ag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mbiguous &amp; Idiosyncratic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Meanings often poorly docu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Semantic conflicts a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325360" y="5027760"/>
            <a:ext cx="655488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manticDB Query Infra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325360" y="11242800"/>
            <a:ext cx="544860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atural Language Query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325360" y="15722640"/>
            <a:ext cx="702972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ata Export &amp; Repor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I access to RDF data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matic generation of standard export modules and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44120" y="5027760"/>
            <a:ext cx="6915240" cy="45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mantic Data Management V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tensi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accept any kind of data without refactoring of data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tomat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model and metadata-dri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ress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formal knowledge representation with transforms between KR dial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ssi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highly distrib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a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handles enterprise-scale data managem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based on emerging W3C standards (XML,RDF, OWL, GRDDL, etc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0359160" y="8163000"/>
            <a:ext cx="1231560" cy="69516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0902040" y="6829560"/>
            <a:ext cx="688680" cy="144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613480" y="7229520"/>
            <a:ext cx="1800" cy="352440"/>
          </a:xfrm>
          <a:prstGeom prst="line">
            <a:avLst/>
          </a:prstGeom>
          <a:ln w="255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28206720" y="6474960"/>
            <a:ext cx="912960" cy="38916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8192320" y="7253280"/>
            <a:ext cx="884160" cy="52848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050320" y="5029200"/>
            <a:ext cx="655488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747200" y="5162400"/>
            <a:ext cx="6858000" cy="85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 u="sng">
                <a:solidFill>
                  <a:srgbClr val="000000"/>
                </a:solidFill>
                <a:uFillTx/>
                <a:latin typeface="Arial"/>
              </a:rPr>
              <a:t>Function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 u="sng">
                <a:solidFill>
                  <a:srgbClr val="000000"/>
                </a:solidFill>
                <a:uFillTx/>
                <a:latin typeface="Arial"/>
              </a:rPr>
              <a:t>Benefit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local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for unanticipate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degree of system 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-fidelity integration and mapping with/to external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rate answers to expressive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Terri OBrian</dc:creator>
  <dc:description/>
  <dc:language>en-US</dc:language>
  <cp:lastModifiedBy>Chimezie Ogbuji</cp:lastModifiedBy>
  <cp:revision>0</cp:revision>
  <dc:subject/>
  <dc:title>Slide 1</dc:title>
</cp:coreProperties>
</file>